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5E1-E898-4185-BE12-3E88650C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68D-3FBE-4167-9289-EA30EC80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6FB-E5F0-401A-A17D-E1A69308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E69-43AD-47D2-B2F0-D079FB37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DBEC-131B-4D0D-93A3-9E1C9565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589D-BEA6-4631-A6F6-C993E50F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9D83-06E5-4A0B-92A4-FC96FD8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D5AC-6F11-4F37-B10D-934E92EF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7660-2275-4BE6-904C-EB35DC69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E821-1FE3-483E-A982-360D77AD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E08D-26E5-493B-9733-5092DF7A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56B-DD1F-41BF-9505-1516C662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F8B1-204C-435B-B0F8-139ABF7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1AA2-59C3-46D9-92C8-B882D13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C799-6EE6-427A-A64B-F3CBC281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0A7A-10D6-4A58-BE82-63DA35AF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1E50-DE24-4364-A933-AE280F0B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25C-5896-4CD5-B230-46A41C91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6D8-B10F-484E-B65F-34029C8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BC7-93B4-4F08-B69C-0DF7339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1CD-4608-4A74-AC8C-30E9281D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948-8AB1-40D1-B8FA-D41F494F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7AC-C497-475D-BBCE-438E5A6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7A1-3C7F-42E8-BA5D-9B51DFC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D6D5-753B-4169-8D82-196EFA1A8702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404A-7E44-48ED-B411-59A0DE73A138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The New Monarchie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nsolidation Begi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Spain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716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Unified through marriage of  Ferdinand of Aragon and Isabella of Castil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rogram of religious orthodoxy: Catholicism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Jews &amp; Muslims conversion or exil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Inquisition began, root out heresy &amp; political opposition to monarch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Reconquista completed 1492 with defeat of Granad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Leader (w/Portugal) world explor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5432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ortugal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2138400"/>
            <a:ext cx="620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Unified territory and monarch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Taking the lead in world explor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rince Henry the Navigator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2735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Holy Roman Empi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Unique obstacles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Vast distances between holding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gional disparit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Ethnic complexities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ack of strong hereditary kingship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standing disputes w/ papacy &amp; Fran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9" dur="1" fill="hold"/>
                                  <p:tgtEl>
                                    <p:spTgt spid="1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Holy Roman Empi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0528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Political empire imposed across geographic &amp; ethnic boundaries @ start 14th C: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Present-day Germany, Prussia, Hungary, Bohemia, Switzerland, &amp; parts of So./No. Ital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iterally 100’s smaller principalities, duchies, &amp; countr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Golden Bull 1356 set 7 electors - 4 princes of church, 3 lay princ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Habsburg family dominated imperial  title by 1438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Russia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9242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cccc"/>
              </a:buClr>
              <a:buFont typeface="Wingding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Unifying under the Dukes of Moscow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Font typeface="Wingding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Font typeface="Wingding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Isolated from Europe by geography, religion, neighboring countr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9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The New Monarchies and </a:t>
            </a:r>
            <a:br>
              <a:rPr sz="4000"/>
            </a:b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the Expansionist Impuls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rom 1450 onwards, France, England, and Spain sought social and political stabilit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Economic distress, civil disorder, plague, and Renaissance culture encouraged impulses to expand into the New Worl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Europeans ultimately hoped to discover an eastern oceanic route to Asia and exploit the African gold trade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7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Machiavellian?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enry VII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ouis XI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erdinand and Isabella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hat questions would you ask to make an argument for or against this evaluation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id they behave both “like a lion” and “like a fox”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1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General Characteristic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114640"/>
            <a:ext cx="731520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. Rulers attempted to bring civil peace back to kingdom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. Institution of monarchy was a guarantee of law and order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. Enlisted help of bourgeoisie who were tired of private wars and marauding nobles. Townspeople willing to let kings rule without parliaments or Estates Generals (strongholds of nobles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General Characteristic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7391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D. Kings, receiving money in taxes, able to organize armies. Pike and longbow enabled foot soldier to stand up to horsemen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E. Roman law adopted by monarchies – break down feudal or ‘common’ law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. Called themselves ‘sovereign’ and addressed as ‘majesty’; court life to reflect royal power continually develope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Tools of Stat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3920" y="2028960"/>
            <a:ext cx="691848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Standing armies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Management-mercenary armies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Organization-renaissance of infantry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Weapons-artillery and fortification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Regular Taxation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Bureaucracies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An Ideology of Sovereignt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Parliaments Form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4800" y="2479680"/>
            <a:ext cx="666900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Parliament (England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Estates-General (France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Imperial Diet (“Germany” - HRE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Cortes (Castile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Cortes (Aragon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Riksdag (Sweden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Obstacles Weakene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280" y="2603520"/>
            <a:ext cx="68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cc66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bles weakened by Hundred Years War, War of the Roses, and Black Death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. Catholic Church weakened by the Schism (Spanish Church being the exception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Englan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96200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Henry VII and Tudor dynasty united the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eople after the Wars of the Ros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Henry VII restored prestige of the monarch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Laws vs. nobles’ standing arm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Monarch not dependent on govt 4 $ =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Encouraged trade, built up merchant flee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Crushed invasion from Ireland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Secured peace w/ Scotland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arliament was included in the Tudor system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3" dur="1" fill="hold"/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Englan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962000"/>
            <a:ext cx="754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Use of Star Chamber (Royal Council):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Center of authority, handled king’s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Aristocratic threats dealt w/ through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Roman Law &amp; methods of enforcemen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Accused not entitled to see evidence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against them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Sessions in secre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Torture often used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No jur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Franc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828800"/>
            <a:ext cx="7086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Victory in the Hundred Years’ War created a strong, centralized monarch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Louis XI (Valois 1461-1483), a Renaissance prince (the “spider king”) brought peace and controlled nobility: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romoted industry(looking for revenue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Improved arm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Signed international treat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Estates General met only on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Foundation of royal absolutism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6" dur="1" fill="hold"/>
                                  <p:tgtEl>
                                    <p:spTgt spid="1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san Gregory</cp:lastModifiedBy>
  <dcterms:modified xsi:type="dcterms:W3CDTF">2006-09-26T05:31:44Z</dcterms:modified>
  <cp:revision>1</cp:revision>
  <dc:subject/>
  <dc:title>The New Monarchies</dc:title>
</cp:coreProperties>
</file>